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carbrak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8BF-7452-4CC5-B0A5-2ED2A89B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EC4-D96B-44DE-8852-995F7916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802-E712-439B-BDEB-94590498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47A-707B-4757-9EEC-A0E6A437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F22C-4BDD-4B99-BF77-C50C4620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1C45-2453-4489-8C61-0EBD12CC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72F-C76D-440D-AA82-AE076B2F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E08-9090-487D-A20F-9D93E042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9821-B334-4EF7-B3BA-99FC8143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12B9-6324-4189-82F9-F1D3B7A9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EB50-935F-4242-B15A-B15E048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170-CF17-494A-99E6-D9E41C4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A3E1-6A23-43D8-902A-48A195F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B3A-6E9C-4487-B190-398AA2A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54D-1B59-442F-942D-C8DD970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B4AA-544C-4EEE-9941-09E05068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1C63-E5E1-4A51-96A5-25E5540C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AF2-DA96-47AC-BBF3-5B8E8EA9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81B-6A5A-4773-9709-72F4C912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E77-1109-49AD-AEBF-BD1CFB8D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E7B-5126-4835-BFA4-C1E8B975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3C5-3204-47FF-B34C-5C81264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1C0-D5EB-49AC-9EE1-276EF7C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6FC-BFAD-491A-9870-5530BB5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199B-86B1-4408-AEC4-A0791749299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B6C-ED97-42EF-BCEC-BA7437800D4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eriods, Question Marks, and Exclamation Poi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Colon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Use a colon after a complete sentence to which you want to attach a list, an appositive, or a quotation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isted item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f you really want to lose weight, you must do three things:  eat smaller portions, exercise, and drink lots of water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lly named her daughters after three Christian virtues:  faith, hope, and charity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isted Item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When the lead-in words at the end of an independent clause are </a:t>
            </a:r>
            <a:r>
              <a:rPr b="1" i="1" lang="en-US" sz="3200" spc="-1" strike="noStrike">
                <a:solidFill>
                  <a:srgbClr val="00264c"/>
                </a:solidFill>
                <a:latin typeface="Times New Roman"/>
              </a:rPr>
              <a:t>such as, including, like,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00264c"/>
                </a:solidFill>
                <a:latin typeface="Times New Roman"/>
              </a:rPr>
              <a:t>consists of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, don’t use a colon.”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The students demanded improvements such as an expanded menu in the cafeteria, improved janitorial services, and more up to date textbook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posi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hen an appositive is introduced by a sentence, use a colo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nly cats would likely approve of one old-fashioned remedy for cuts:  a lotion, of catnip, butter, and sugar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Quot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sentence (independent clause) may be used to introduce a quotatio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little boy in E. T. did say something neat:  “How do you explain school to a higher intelligence?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ther Uses for Col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itle and subtitl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ivilian tim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iblical referenc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emos and lett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micol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semicolon is used between two sentences that are closely connected in meaning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dependent clause; independent claus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s is my husband’s second marriage; it’s the first for m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micolon Pattern I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dependent clause; conjunctive adverb, independent claus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Conjunctive adverbs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average rainfall in Death Valley is about two inches; nevertheless, hundreds of plant and animal species surviv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micolon Pattern I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dependent clause; transitional expression, independent clause (transitional expression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hotographers have spent years recording desert life cycles; as a result, we can watch bare sand flower after a spring stor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The most frequently used and misused piece of punctuation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2" name="Picture 7" descr="punctuation2"/>
          <p:cNvPicPr/>
          <p:nvPr/>
        </p:nvPicPr>
        <p:blipFill>
          <a:blip r:embed="rId1"/>
          <a:stretch/>
        </p:blipFill>
        <p:spPr>
          <a:xfrm>
            <a:off x="228600" y="1900080"/>
            <a:ext cx="43434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to U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period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nds a statement, a mild command, or an INDIRECT QUESTION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question mark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nds a direct question, one that quotes the exact words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exclamation point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nds a strong command or an emphatic declaration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mma before coordinating conjunctions that link independent claus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junctions:  and, but, or, nor, for, so, or yet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with introductory ele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mma follows an introductory word, phrase, or clause that comes before an independent clause (sentence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evertheless, many people think fructose isn’t harmful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o satisfy a craving for ice cream, even timid people sometimes brave midnight stree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hen the topic is dieting, many people say sugar craving is their worst proble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in a seri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series is a group of three or more words, phrases, and clauses that match in grammatical form.  They should be of equal importan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arriage requires sexual, financial, and emotional disciplin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y love of flying goes back to those early days of roller skates, of swings, and of bicycl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with quoted word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planatory words such as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aid, stated, declared,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nd others introduce DIRECT DISCOURSE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eople speaking directl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Quoting the words from an outsid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our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peaking of ideal love, the poet William Blake wrote, “Love seeketh not itself to please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 love no love,” proclaimed poet Mary Coleridge,” but thee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with nonrestrictive ele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nonrestrictive element contains information that’s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ssential to the senten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*commas are required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restrictive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lement contains information essential to the senten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y parents, who are both over sixty-five, took a defensive driving cours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any U.S. states  retest drivers who are over sixty-five to check their driving competency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ther “nonessential”/parenthetical el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25400"/>
            <a:ext cx="77724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Use commas for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Transitional  or parenthetical express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Contras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Words of direct addres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Tag sentenc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postrophes, Colons, Semicolons, and Comma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lifornia and Florida, for example, are important food producer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merican Farmers, according to U.S. government figures, export more wheat than they sell at hom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eeding the world’s population is a serious, though not impossible, proble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ypes of Punctu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Picture 7" descr="punctuation"/>
          <p:cNvPicPr/>
          <p:nvPr/>
        </p:nvPicPr>
        <p:blipFill>
          <a:blip r:embed="rId1"/>
          <a:stretch/>
        </p:blipFill>
        <p:spPr>
          <a:xfrm>
            <a:off x="18288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Apostroph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5" descr="apostrophes"/>
          <p:cNvPicPr/>
          <p:nvPr/>
        </p:nvPicPr>
        <p:blipFill>
          <a:blip r:embed="rId1"/>
          <a:stretch/>
        </p:blipFill>
        <p:spPr>
          <a:xfrm>
            <a:off x="304920" y="1996920"/>
            <a:ext cx="3581280" cy="402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Possessive Cas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Contrac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Plurals for letters and number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ostroph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Contractions – the apostrophe takes the place of letter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t’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don’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you’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Plural of numbers and lett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A’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1990’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&amp;’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ostrophes – Possessive Ca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An apostrophe works with a NOUN to form the POSSESSIVE CASE, which shows ownership or a close relationship.”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Sally’s dress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John’s ang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your car’s battery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the Supreme Court’s          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rulin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ow to Use an Apostroph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‘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to nouns not ending in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‘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to singular nouns ending in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dd only an apostrophe to a plural noun ending in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ow to U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905120"/>
          <a:ext cx="7772400" cy="4190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nds in </a:t>
                      </a:r>
                      <a:r>
                        <a:rPr b="1" i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es not end in </a:t>
                      </a:r>
                      <a:r>
                        <a:rPr b="1" i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gular Noun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9d7ce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lural Noun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a9d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6:03:23Z</dcterms:created>
  <dc:creator>/david /f. Hubbekk</dc:creator>
  <dc:description/>
  <dc:language>en-US</dc:language>
  <cp:lastModifiedBy>instructor</cp:lastModifiedBy>
  <dcterms:modified xsi:type="dcterms:W3CDTF">2011-02-02T01:53:06Z</dcterms:modified>
  <cp:revision>19</cp:revision>
  <dc:subject/>
  <dc:title>Punctuation</dc:title>
</cp:coreProperties>
</file>